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2969-9810-4C11-9CD0-7F648FFF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764-E1DD-43C9-B0D4-84BF1FF2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A35-8647-40E5-9ACC-493863C3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E16-867F-46BA-95DD-F0DE06BA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51E-EE1D-49EB-B933-64BF40F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C11-697D-422B-B4F5-B950ABDC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9D4-BD95-45A0-A959-9F2245E8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3CE-285C-49C8-80CD-476A42F8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662-BAEE-4A77-9688-166F9E54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A2D9-214A-4717-A058-68AD9CE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607-F231-46E8-96D2-A7CF342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D9E-0308-45C8-B8EB-9F0422C6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BB0E-6329-41C3-B665-F340ACEAFF27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0DB-73E0-4B18-8B3A-7AE9D945960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he.xinhuanet.com/yuedu/2005-11/12/content_5555581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5564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合作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363920"/>
            <a:ext cx="1670040" cy="540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341360"/>
            <a:ext cx="785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明清时期：统一多民族国家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巩固与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82760" y="2832120"/>
            <a:ext cx="46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20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清朝君主专制的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0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Franklin Gothic Medium"/>
              </a:rPr>
              <a:t>结论：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55360" y="1599840"/>
            <a:ext cx="7389720" cy="414324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沈阳故宫开议政王大臣会议时，皇帝坐在中间的大政殿里，处于中心位置；议事大臣还能坐在甬道两边的“十王亭”里，位置也很重要。沈阳故宫突出了皇帝的中心位置和王公大臣的重要地位。在北京的乾清宫、军机处处理军国大事时，皇帝坐在龙椅之上，军机大臣就只能跪在地上了，因此，乾清宫与军机处反映了皇帝至高无上的地位和大臣的低下地位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92440" y="1226880"/>
            <a:ext cx="1603440" cy="7110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Franklin Gothic Medium"/>
                <a:ea typeface="微软雅黑"/>
              </a:rPr>
              <a:t>辩论台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0560" y="2017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anklin Gothic Medium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Franklin Gothic Medium"/>
              </a:rPr>
              <a:t>关于军机处的设立，有以下两种观点，请你结合上述材料和所学知识，议一议：哪种观点正确？为什么？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观点一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军机处的设立，提高了办事效率，有好处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观点二：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设立军机处，官员们什么都得听皇帝的，他们的政治责任感和创造精神都没有了，一点好处也没有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520560" y="51444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评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600200"/>
            <a:ext cx="8229600" cy="379728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           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军机处的设立，一方面，军国事务完全凭皇帝裁决，军机大臣的任务只是传达和抄写皇帝的旨意，不能有任何自己的观点和意见。这样官员们什么都得听皇帝的，扼杀了他们的政治责任感和创造精神。但是，军机处的设立并不是一点好处也没有，因为它简化了办事程序，提高了办事效率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99"/>
          <p:cNvSpPr/>
          <p:nvPr/>
        </p:nvSpPr>
        <p:spPr>
          <a:xfrm>
            <a:off x="619200" y="1812960"/>
            <a:ext cx="7904160" cy="22269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基本情况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雍正时设立军机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用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是皇帝的一个秘书处，无实权，形式上始终是一个临时机构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影响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军机处设立后，议政王大臣会议名存实亡；便于皇帝独断朝政，君主专制进一步强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677880" y="86040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总结概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6152"/>
          <p:cNvSpPr/>
          <p:nvPr/>
        </p:nvSpPr>
        <p:spPr>
          <a:xfrm>
            <a:off x="558720" y="41760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151"/>
          <p:cNvSpPr/>
          <p:nvPr/>
        </p:nvSpPr>
        <p:spPr>
          <a:xfrm>
            <a:off x="2126160" y="40464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文字狱和文化专制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6152"/>
          <p:cNvSpPr/>
          <p:nvPr/>
        </p:nvSpPr>
        <p:spPr>
          <a:xfrm>
            <a:off x="685800" y="5446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6147"/>
          <p:cNvGrpSpPr/>
          <p:nvPr/>
        </p:nvGrpSpPr>
        <p:grpSpPr>
          <a:xfrm>
            <a:off x="615960" y="190440"/>
            <a:ext cx="2232000" cy="808200"/>
            <a:chOff x="615960" y="190440"/>
            <a:chExt cx="2232000" cy="808200"/>
          </a:xfrm>
        </p:grpSpPr>
        <p:sp>
          <p:nvSpPr>
            <p:cNvPr id="109" name="矩形 7"/>
            <p:cNvSpPr/>
            <p:nvPr/>
          </p:nvSpPr>
          <p:spPr>
            <a:xfrm>
              <a:off x="1175760" y="190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6"/>
            <p:cNvSpPr/>
            <p:nvPr/>
          </p:nvSpPr>
          <p:spPr>
            <a:xfrm>
              <a:off x="615960" y="478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17"/>
            <p:cNvSpPr/>
            <p:nvPr/>
          </p:nvSpPr>
          <p:spPr>
            <a:xfrm>
              <a:off x="977760" y="428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615960" y="478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1"/>
          <p:cNvSpPr/>
          <p:nvPr/>
        </p:nvSpPr>
        <p:spPr>
          <a:xfrm>
            <a:off x="790560" y="996840"/>
            <a:ext cx="27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一）文字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893880" y="1514520"/>
            <a:ext cx="7576920" cy="5205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含义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所谓</a:t>
            </a:r>
            <a:r>
              <a:rPr b="0" lang="zh-CN" sz="2800" spc="-1" strike="noStrike">
                <a:solidFill>
                  <a:srgbClr val="44546a"/>
                </a:solidFill>
                <a:latin typeface="黑体"/>
                <a:ea typeface="黑体"/>
              </a:rPr>
              <a:t>文字狱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就是用挑剔文字过错的办法来找罪名，对知识分子进行迫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99"/>
          <p:cNvSpPr/>
          <p:nvPr/>
        </p:nvSpPr>
        <p:spPr>
          <a:xfrm>
            <a:off x="615960" y="283860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材料一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朝臣查嗣庭任江西主考，出题“维民所止”，被告发“维止”二字，影射“去雍正二字之首”。雍正大怒，将查嗣庭入狱。结果 是查连惊带吓死于狱中，其尸被戮，查的亲属或处斩或凌迟，或流放。再如，有个叫徐骏的官员，仅仅因为诗中有“清风不识字，何必乱翻书”一句，便被扣上“诽谤朝廷”的罪名，落得个身首异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材料二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翰林学士胡中藻有句诗曰“一把心肠论浊清”，乾隆看到后大发雷霆：“加‘浊’字于国号‘清’字之上，是何肺腑？”胡中藻遂因一“浊”字被杀，并罪及师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99"/>
          <p:cNvSpPr/>
          <p:nvPr/>
        </p:nvSpPr>
        <p:spPr>
          <a:xfrm>
            <a:off x="1108080" y="1960560"/>
            <a:ext cx="6465960" cy="237924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背景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朝统治者非常注重从思想领域严密控制知识分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兴盛的时期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雍乾三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特点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规模大，次数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"/>
          <p:cNvSpPr/>
          <p:nvPr/>
        </p:nvSpPr>
        <p:spPr>
          <a:xfrm>
            <a:off x="800280" y="660240"/>
            <a:ext cx="31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基本概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19440" y="1123560"/>
            <a:ext cx="1674720" cy="679320"/>
          </a:xfrm>
          <a:prstGeom prst="rect">
            <a:avLst/>
          </a:prstGeom>
          <a:solidFill>
            <a:srgbClr val="70ad47"/>
          </a:solidFill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议一议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62080" y="2062080"/>
            <a:ext cx="713736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清朝统治者为何要大兴文字狱？产生了怎样的后果？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文本框 33795"/>
          <p:cNvSpPr/>
          <p:nvPr/>
        </p:nvSpPr>
        <p:spPr>
          <a:xfrm>
            <a:off x="1162080" y="3301920"/>
            <a:ext cx="7242120" cy="106884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为了加强专制，从思想上严密控制知识分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造成了社会恐怖，摧残了人才，禁锢了思想，严重阻碍了思想、学术的发展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326880" y="546120"/>
            <a:ext cx="31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084320" y="1320840"/>
          <a:ext cx="7273800" cy="4707000"/>
        </p:xfrm>
        <a:graphic>
          <a:graphicData uri="http://schemas.openxmlformats.org/drawingml/2006/table">
            <a:tbl>
              <a:tblPr/>
              <a:tblGrid>
                <a:gridCol w="2090880"/>
                <a:gridCol w="5182920"/>
              </a:tblGrid>
              <a:tr h="790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23"/>
          <p:cNvSpPr/>
          <p:nvPr/>
        </p:nvSpPr>
        <p:spPr>
          <a:xfrm>
            <a:off x="4754520" y="1393920"/>
            <a:ext cx="10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事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1824840" y="2446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秦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4722840" y="24462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焚书坑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1826280" y="3382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西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3532320" y="34146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罢黜百家；独尊儒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1826280" y="4319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明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4794120" y="4390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八股取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1826280" y="532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清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5005440" y="5327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文字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1822320" y="1465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朝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3465720" y="566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历史上控制思想的重要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"/>
          <p:cNvSpPr/>
          <p:nvPr/>
        </p:nvSpPr>
        <p:spPr>
          <a:xfrm>
            <a:off x="768240" y="57780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二）文化专制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1157400" y="1249200"/>
            <a:ext cx="35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9"/>
          <p:cNvSpPr/>
          <p:nvPr/>
        </p:nvSpPr>
        <p:spPr>
          <a:xfrm>
            <a:off x="1627200" y="2457360"/>
            <a:ext cx="5732280" cy="642600"/>
          </a:xfrm>
          <a:prstGeom prst="rect">
            <a:avLst/>
          </a:prstGeom>
          <a:gradFill rotWithShape="0">
            <a:gsLst>
              <a:gs pos="0">
                <a:srgbClr val="a8b7df"/>
              </a:gs>
              <a:gs pos="100000">
                <a:srgbClr val="879ed7"/>
              </a:gs>
            </a:gsLst>
            <a:lin ang="5400000"/>
          </a:gra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方面，大力提倡尊孔读经；另一方面，对全国书籍进行全面检查，把认为是对清朝统治不利的书籍列为禁书，收缴并进行销毁、篡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3"/>
          <p:cNvSpPr/>
          <p:nvPr/>
        </p:nvSpPr>
        <p:spPr>
          <a:xfrm>
            <a:off x="1003320" y="758880"/>
            <a:ext cx="69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材料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朝乾隆纂修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四库全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 全世界范围内荟萃群书的空前钜制。它整理保存了大量历史文献和典籍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映了中华文化建设的重大成就。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四库全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纂修是为了加强文化专制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巩固满清统治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内容也主要选择那些有利于清朝统治的内容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清代的文化专制起了推波助澜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1709640" y="3232080"/>
            <a:ext cx="57247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" descr="军机处外景"/>
          <p:cNvPicPr/>
          <p:nvPr/>
        </p:nvPicPr>
        <p:blipFill>
          <a:blip r:embed="rId1"/>
          <a:stretch/>
        </p:blipFill>
        <p:spPr>
          <a:xfrm>
            <a:off x="1700280" y="993600"/>
            <a:ext cx="6091200" cy="41338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99"/>
          <p:cNvSpPr/>
          <p:nvPr/>
        </p:nvSpPr>
        <p:spPr>
          <a:xfrm>
            <a:off x="3533760" y="529596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清朝军机处外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文本框 99"/>
          <p:cNvSpPr/>
          <p:nvPr/>
        </p:nvSpPr>
        <p:spPr>
          <a:xfrm>
            <a:off x="1481040" y="2103480"/>
            <a:ext cx="6181920" cy="13737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致使不少极有价值的历史文献绝迹或失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乾隆毁书和篡改书籍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，这是继秦始皇焚书坑儒以来中国古代文化遭受的又一次浩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"/>
          <p:cNvSpPr/>
          <p:nvPr/>
        </p:nvSpPr>
        <p:spPr>
          <a:xfrm>
            <a:off x="1167480" y="631800"/>
            <a:ext cx="9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51"/>
          <p:cNvSpPr/>
          <p:nvPr/>
        </p:nvSpPr>
        <p:spPr>
          <a:xfrm>
            <a:off x="2009520" y="5716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不断加剧的社会矛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6152"/>
          <p:cNvSpPr/>
          <p:nvPr/>
        </p:nvSpPr>
        <p:spPr>
          <a:xfrm>
            <a:off x="641520" y="711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6147"/>
          <p:cNvGrpSpPr/>
          <p:nvPr/>
        </p:nvGrpSpPr>
        <p:grpSpPr>
          <a:xfrm>
            <a:off x="571680" y="357120"/>
            <a:ext cx="2232000" cy="808200"/>
            <a:chOff x="571680" y="357120"/>
            <a:chExt cx="2232000" cy="808200"/>
          </a:xfrm>
        </p:grpSpPr>
        <p:sp>
          <p:nvSpPr>
            <p:cNvPr id="145" name="矩形 7"/>
            <p:cNvSpPr/>
            <p:nvPr/>
          </p:nvSpPr>
          <p:spPr>
            <a:xfrm>
              <a:off x="1131480" y="35712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任意多边形 16"/>
            <p:cNvSpPr/>
            <p:nvPr/>
          </p:nvSpPr>
          <p:spPr>
            <a:xfrm>
              <a:off x="571680" y="64548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7"/>
            <p:cNvSpPr/>
            <p:nvPr/>
          </p:nvSpPr>
          <p:spPr>
            <a:xfrm>
              <a:off x="933480" y="5947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6152"/>
            <p:cNvSpPr/>
            <p:nvPr/>
          </p:nvSpPr>
          <p:spPr>
            <a:xfrm>
              <a:off x="571680" y="64476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99"/>
          <p:cNvSpPr/>
          <p:nvPr/>
        </p:nvSpPr>
        <p:spPr>
          <a:xfrm>
            <a:off x="1297080" y="2316240"/>
            <a:ext cx="6484680" cy="22269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官僚体制日益腐败，官场上贿赂成风，结党营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各级官吏，敲诈民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官场的腐败之风也在军队中蔓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905040" y="1343160"/>
            <a:ext cx="33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99"/>
          <p:cNvSpPr/>
          <p:nvPr/>
        </p:nvSpPr>
        <p:spPr>
          <a:xfrm>
            <a:off x="822240" y="1365120"/>
            <a:ext cx="7305840" cy="137376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出现了财政危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大官僚、大地主和大商人不择手段地兼并土地，失去土地的农民纷纷破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895320" y="4511520"/>
            <a:ext cx="7232760" cy="52056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会的贫富分化十分严重，广大民众的生活日益困苦，社会危机重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822240" y="619200"/>
            <a:ext cx="33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"/>
          <p:cNvSpPr/>
          <p:nvPr/>
        </p:nvSpPr>
        <p:spPr>
          <a:xfrm>
            <a:off x="895320" y="3613320"/>
            <a:ext cx="337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6152"/>
          <p:cNvSpPr/>
          <p:nvPr/>
        </p:nvSpPr>
        <p:spPr>
          <a:xfrm>
            <a:off x="514440" y="58428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6151"/>
          <p:cNvSpPr/>
          <p:nvPr/>
        </p:nvSpPr>
        <p:spPr>
          <a:xfrm>
            <a:off x="1793160" y="5716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闭关锁国政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6152"/>
          <p:cNvSpPr/>
          <p:nvPr/>
        </p:nvSpPr>
        <p:spPr>
          <a:xfrm>
            <a:off x="641520" y="71136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147"/>
          <p:cNvGrpSpPr/>
          <p:nvPr/>
        </p:nvGrpSpPr>
        <p:grpSpPr>
          <a:xfrm>
            <a:off x="571680" y="357120"/>
            <a:ext cx="2232000" cy="808560"/>
            <a:chOff x="571680" y="357120"/>
            <a:chExt cx="2232000" cy="808560"/>
          </a:xfrm>
        </p:grpSpPr>
        <p:sp>
          <p:nvSpPr>
            <p:cNvPr id="159" name="矩形 7"/>
            <p:cNvSpPr/>
            <p:nvPr/>
          </p:nvSpPr>
          <p:spPr>
            <a:xfrm>
              <a:off x="1131480" y="357120"/>
              <a:ext cx="167220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16"/>
            <p:cNvSpPr/>
            <p:nvPr/>
          </p:nvSpPr>
          <p:spPr>
            <a:xfrm>
              <a:off x="571680" y="64584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7"/>
            <p:cNvSpPr/>
            <p:nvPr/>
          </p:nvSpPr>
          <p:spPr>
            <a:xfrm>
              <a:off x="933480" y="59472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6152"/>
            <p:cNvSpPr/>
            <p:nvPr/>
          </p:nvSpPr>
          <p:spPr>
            <a:xfrm>
              <a:off x="571680" y="64512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文本框 10"/>
          <p:cNvSpPr/>
          <p:nvPr/>
        </p:nvSpPr>
        <p:spPr>
          <a:xfrm>
            <a:off x="1000080" y="1230480"/>
            <a:ext cx="33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878040" y="1959120"/>
            <a:ext cx="7387920" cy="60588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给自足的自然经济不需要外来商品也可以自我供给（根本原因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3"/>
          <p:cNvSpPr/>
          <p:nvPr/>
        </p:nvSpPr>
        <p:spPr>
          <a:xfrm>
            <a:off x="933480" y="3408480"/>
            <a:ext cx="699624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清朝统治者认为天朝地大物博，无所不有，不需要同外国进行经济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33480" y="4879800"/>
            <a:ext cx="7159680" cy="52056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惧怕沿海人民同外国人交往，会危及自己的统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5"/>
          <p:cNvSpPr/>
          <p:nvPr/>
        </p:nvSpPr>
        <p:spPr>
          <a:xfrm>
            <a:off x="785880" y="790560"/>
            <a:ext cx="7797600" cy="104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材料一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朝物产丰盈，无所不有，原不藉（借助）外夷（外国）货物以通有无。特因天朝所产茶叶、瓷器、丝绸等为西洋各国及尔国必须之物，是以（所以）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加恩体恤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79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乾隆致英国国王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42840" y="4383000"/>
            <a:ext cx="7797960" cy="97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材料二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朝富有四海，岂需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尔小国些微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货物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嘉庆帝的敕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99"/>
          <p:cNvSpPr/>
          <p:nvPr/>
        </p:nvSpPr>
        <p:spPr>
          <a:xfrm>
            <a:off x="822240" y="4888080"/>
            <a:ext cx="7704360" cy="459720"/>
          </a:xfrm>
          <a:prstGeom prst="rect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1757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年，下令关闭了其他港口，只开放广州一处作为对外通商口岸，并规定由朝廷特许的“广东十三行”统一经营对外贸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0"/>
          <p:cNvSpPr/>
          <p:nvPr/>
        </p:nvSpPr>
        <p:spPr>
          <a:xfrm>
            <a:off x="822240" y="504720"/>
            <a:ext cx="33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"/>
          <p:cNvSpPr/>
          <p:nvPr/>
        </p:nvSpPr>
        <p:spPr>
          <a:xfrm>
            <a:off x="520560" y="1562040"/>
            <a:ext cx="787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68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年，清朝对海上贸易先后作了若干具体规定：一、沿海广东、福建、江南、浙江、山东与直隶省，听百姓装载五百石以下船只往海上贸易捕鱼。预行禀明该地方官登记名姓，取具保结，发给印票。二、在江南、浙江、福建、广东四省设海关，管理来往船只，并征收税银。外国贡船所带货物不再收税，其余私来贸易者，听所差部臣照例收税。三、直隶、山东、江南、浙江、福建、广东各省，先定海禁处分之例，尽行停止。若有违禁将硫磺、军器等物，私载在船出洋贸易者，仍照律处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调整大小 广州十三行"/>
          <p:cNvPicPr/>
          <p:nvPr/>
        </p:nvPicPr>
        <p:blipFill>
          <a:blip r:embed="rId1"/>
          <a:stretch/>
        </p:blipFill>
        <p:spPr>
          <a:xfrm>
            <a:off x="673200" y="1403280"/>
            <a:ext cx="8001000" cy="313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"/>
          <p:cNvSpPr/>
          <p:nvPr/>
        </p:nvSpPr>
        <p:spPr>
          <a:xfrm>
            <a:off x="3663360" y="762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广州十三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609480" y="4876920"/>
            <a:ext cx="8064720" cy="134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445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经清政府特许设立的对外贸易组织。他们垄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外贸易，又受清政府委托行使一定的外交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911160" y="295272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正方：闭关锁国利国利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911160" y="426708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反方：闭关锁国误国误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844720" y="1608120"/>
            <a:ext cx="3686400" cy="7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辩 论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文本框 10"/>
          <p:cNvSpPr/>
          <p:nvPr/>
        </p:nvSpPr>
        <p:spPr>
          <a:xfrm>
            <a:off x="822240" y="504720"/>
            <a:ext cx="336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26640" y="636480"/>
            <a:ext cx="7147080" cy="2640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　　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闭关自守的中国，就像一具木乃伊，一直密闭在棺材中，不与外界接触，一旦与新鲜空气接触，就立即腐 烂。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”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马克思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Picture 7" descr="xinsrc_5311021011414211452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4240" y="3390840"/>
            <a:ext cx="2590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100"/>
          <p:cNvSpPr/>
          <p:nvPr/>
        </p:nvSpPr>
        <p:spPr>
          <a:xfrm>
            <a:off x="2104920" y="1027080"/>
            <a:ext cx="5562720" cy="642600"/>
          </a:xfrm>
          <a:prstGeom prst="rect">
            <a:avLst/>
          </a:prstGeom>
          <a:gradFill rotWithShape="0">
            <a:gsLst>
              <a:gs pos="0">
                <a:srgbClr val="f7bda4"/>
              </a:gs>
              <a:gs pos="100000">
                <a:srgbClr val="f8a581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朝的闭关锁国政策推行了近两百年，对西方殖民者的侵略活动曾起到过一定的作用。但是，当时的西方国家正先后进行资产阶级革命和工业革命，跨人生产力迅速发展的时期，而清廷仍然故步自封，闭关自守，导致国家的闭塞，使中国错失了向西方学习先进的科学知识和生产技术的机会，中国逐渐落伍于世界历史的发展进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4"/>
          <p:cNvSpPr/>
          <p:nvPr/>
        </p:nvSpPr>
        <p:spPr>
          <a:xfrm>
            <a:off x="4000680" y="1000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973160" y="1736640"/>
            <a:ext cx="5761080" cy="3384720"/>
          </a:xfrm>
          <a:prstGeom prst="rect">
            <a:avLst/>
          </a:prstGeom>
          <a:solidFill>
            <a:srgbClr val="fbe5d6"/>
          </a:solidFill>
          <a:ln w="12600">
            <a:solidFill>
              <a:srgbClr val="a9d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清朝设立军机处的基本史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理解清朝实施文字狱与文化专制政策基本知识以及它的严重恶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清朝实行“闭关锁国”政策的原因、过程和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1" descr=""/>
          <p:cNvPicPr/>
          <p:nvPr/>
        </p:nvPicPr>
        <p:blipFill>
          <a:blip r:embed="rId1"/>
          <a:stretch/>
        </p:blipFill>
        <p:spPr>
          <a:xfrm>
            <a:off x="1677960" y="1720800"/>
            <a:ext cx="6050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909720" y="793800"/>
            <a:ext cx="76723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如果把“锦衣卫、东厂和西厂”“军机处”“文字狱”确定为一个学习单元，则这个单元的主题应该是 （   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特务统治的强化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思想控制的加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文化专制的强化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专制集权的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"/>
          <p:cNvSpPr/>
          <p:nvPr/>
        </p:nvSpPr>
        <p:spPr>
          <a:xfrm>
            <a:off x="4181400" y="218448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825480" y="773280"/>
            <a:ext cx="71931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朝初年，掌握实权的是  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阁        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议政王大臣会议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宦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673200" y="3100320"/>
            <a:ext cx="819792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朝文字狱以哪几位皇帝在位时最残酷（     ）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顺治  ②康熙  ③雍正  ④乾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.①②③      B.②③④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.①②④      D.①③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"/>
          <p:cNvSpPr/>
          <p:nvPr/>
        </p:nvSpPr>
        <p:spPr>
          <a:xfrm>
            <a:off x="6008760" y="62856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7805880" y="310032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"/>
          <p:cNvSpPr/>
          <p:nvPr/>
        </p:nvSpPr>
        <p:spPr>
          <a:xfrm>
            <a:off x="1527120" y="1320840"/>
            <a:ext cx="6804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政府实行闭关锁国政策，当时唯一对外通商的城市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杭州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香港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广州 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泉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2"/>
          <p:cNvSpPr/>
          <p:nvPr/>
        </p:nvSpPr>
        <p:spPr>
          <a:xfrm>
            <a:off x="4538520" y="20685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152"/>
          <p:cNvSpPr/>
          <p:nvPr/>
        </p:nvSpPr>
        <p:spPr>
          <a:xfrm>
            <a:off x="325440" y="693720"/>
            <a:ext cx="5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9bd5"/>
                </a:solidFill>
                <a:latin typeface="Arial"/>
                <a:ea typeface="黑体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6147"/>
          <p:cNvGrpSpPr/>
          <p:nvPr/>
        </p:nvGrpSpPr>
        <p:grpSpPr>
          <a:xfrm>
            <a:off x="325440" y="406440"/>
            <a:ext cx="2232000" cy="808200"/>
            <a:chOff x="325440" y="406440"/>
            <a:chExt cx="2232000" cy="808200"/>
          </a:xfrm>
        </p:grpSpPr>
        <p:sp>
          <p:nvSpPr>
            <p:cNvPr id="56" name="矩形 7"/>
            <p:cNvSpPr/>
            <p:nvPr/>
          </p:nvSpPr>
          <p:spPr>
            <a:xfrm>
              <a:off x="885240" y="406440"/>
              <a:ext cx="167220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任意多边形 16"/>
            <p:cNvSpPr/>
            <p:nvPr/>
          </p:nvSpPr>
          <p:spPr>
            <a:xfrm>
              <a:off x="325440" y="6948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7"/>
            <p:cNvSpPr/>
            <p:nvPr/>
          </p:nvSpPr>
          <p:spPr>
            <a:xfrm>
              <a:off x="687240" y="6440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6152"/>
            <p:cNvSpPr/>
            <p:nvPr/>
          </p:nvSpPr>
          <p:spPr>
            <a:xfrm>
              <a:off x="325440" y="694080"/>
              <a:ext cx="55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Arial"/>
                  <a:ea typeface="黑体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文本框 6151"/>
          <p:cNvSpPr/>
          <p:nvPr/>
        </p:nvSpPr>
        <p:spPr>
          <a:xfrm>
            <a:off x="1604160" y="6811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黑体"/>
                <a:ea typeface="黑体"/>
              </a:rPr>
              <a:t>探究点：军机处的设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546120" y="156528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7413"/>
          <p:cNvSpPr/>
          <p:nvPr/>
        </p:nvSpPr>
        <p:spPr>
          <a:xfrm>
            <a:off x="1332000" y="2693880"/>
            <a:ext cx="60595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清初，沿用明朝的官制，在中央设立内阁和六部，但保留了由满洲贵族组成的议政王大臣会议。议政王大臣会议严重阻碍了中央集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8433"/>
          <p:cNvSpPr/>
          <p:nvPr/>
        </p:nvSpPr>
        <p:spPr>
          <a:xfrm>
            <a:off x="723960" y="1447920"/>
            <a:ext cx="7848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6e6"/>
                </a:solidFill>
                <a:latin typeface="Times New Roman"/>
                <a:ea typeface="隶书"/>
              </a:rPr>
              <a:t>       </a:t>
            </a:r>
            <a:r>
              <a:rPr b="1" lang="en-US" sz="3200" spc="-1" strike="noStrike">
                <a:solidFill>
                  <a:srgbClr val="e7e6e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议政王大臣会议享有怎样的权力，它对皇权有威胁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矩形 18434" descr=""/>
          <p:cNvPicPr/>
          <p:nvPr/>
        </p:nvPicPr>
        <p:blipFill>
          <a:blip r:embed="rId1"/>
          <a:stretch/>
        </p:blipFill>
        <p:spPr>
          <a:xfrm>
            <a:off x="933480" y="577800"/>
            <a:ext cx="2074680" cy="76032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8435"/>
          <p:cNvSpPr/>
          <p:nvPr/>
        </p:nvSpPr>
        <p:spPr>
          <a:xfrm>
            <a:off x="685800" y="27860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切军国大事都要经过议政王大臣会议，一经决定，连皇帝也不能改变。议政王大臣会议的存在，它不仅使内阁形同虚设，最主要的是它限制了皇帝的权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3327480" y="993960"/>
            <a:ext cx="1495440" cy="642600"/>
          </a:xfrm>
          <a:prstGeom prst="rect">
            <a:avLst/>
          </a:prstGeom>
          <a:solidFill>
            <a:srgbClr val="e1f4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皇 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895320" y="1436760"/>
            <a:ext cx="2359080" cy="948600"/>
            <a:chOff x="895320" y="1436760"/>
            <a:chExt cx="2359080" cy="948600"/>
          </a:xfrm>
        </p:grpSpPr>
        <p:sp>
          <p:nvSpPr>
            <p:cNvPr id="68" name="Rectangle 4"/>
            <p:cNvSpPr/>
            <p:nvPr/>
          </p:nvSpPr>
          <p:spPr>
            <a:xfrm>
              <a:off x="895320" y="1834560"/>
              <a:ext cx="2359080" cy="550800"/>
            </a:xfrm>
            <a:prstGeom prst="rect">
              <a:avLst/>
            </a:prstGeom>
            <a:solidFill>
              <a:srgbClr val="e1f4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内阁和六部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062800" y="1436760"/>
              <a:ext cx="718560" cy="305640"/>
              <a:chOff x="2062800" y="1436760"/>
              <a:chExt cx="718560" cy="305640"/>
            </a:xfrm>
          </p:grpSpPr>
          <p:sp>
            <p:nvSpPr>
              <p:cNvPr id="70" name="Line 5"/>
              <p:cNvSpPr/>
              <p:nvPr/>
            </p:nvSpPr>
            <p:spPr>
              <a:xfrm flipH="1">
                <a:off x="2062800" y="1436760"/>
                <a:ext cx="718200" cy="305640"/>
              </a:xfrm>
              <a:prstGeom prst="line">
                <a:avLst/>
              </a:prstGeom>
              <a:ln w="101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2063160" y="1436760"/>
                <a:ext cx="718200" cy="30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Group 6"/>
          <p:cNvGrpSpPr/>
          <p:nvPr/>
        </p:nvGrpSpPr>
        <p:grpSpPr>
          <a:xfrm>
            <a:off x="5337000" y="1436760"/>
            <a:ext cx="3097440" cy="948600"/>
            <a:chOff x="5337000" y="1436760"/>
            <a:chExt cx="3097440" cy="948600"/>
          </a:xfrm>
        </p:grpSpPr>
        <p:sp>
          <p:nvSpPr>
            <p:cNvPr id="73" name="Rectangle 7"/>
            <p:cNvSpPr/>
            <p:nvPr/>
          </p:nvSpPr>
          <p:spPr>
            <a:xfrm>
              <a:off x="5337000" y="1834560"/>
              <a:ext cx="3097440" cy="550800"/>
            </a:xfrm>
            <a:prstGeom prst="rect">
              <a:avLst/>
            </a:prstGeom>
            <a:solidFill>
              <a:srgbClr val="e1f4ff"/>
            </a:solidFill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议政王大臣会议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37000" y="1436760"/>
              <a:ext cx="648000" cy="305280"/>
              <a:chOff x="5337000" y="1436760"/>
              <a:chExt cx="648000" cy="305280"/>
            </a:xfrm>
          </p:grpSpPr>
          <p:sp>
            <p:nvSpPr>
              <p:cNvPr id="75" name="Line 8"/>
              <p:cNvSpPr/>
              <p:nvPr/>
            </p:nvSpPr>
            <p:spPr>
              <a:xfrm>
                <a:off x="5337000" y="1436760"/>
                <a:ext cx="648000" cy="305280"/>
              </a:xfrm>
              <a:prstGeom prst="line">
                <a:avLst/>
              </a:prstGeom>
              <a:ln w="1015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5337000" y="1436760"/>
                <a:ext cx="648000" cy="30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4102200" y="2087640"/>
            <a:ext cx="1440" cy="647640"/>
            <a:chOff x="4102200" y="2087640"/>
            <a:chExt cx="1440" cy="647640"/>
          </a:xfrm>
        </p:grpSpPr>
        <p:sp>
          <p:nvSpPr>
            <p:cNvPr id="78" name="Line 9"/>
            <p:cNvSpPr/>
            <p:nvPr/>
          </p:nvSpPr>
          <p:spPr>
            <a:xfrm>
              <a:off x="4102200" y="2087640"/>
              <a:ext cx="1440" cy="647640"/>
            </a:xfrm>
            <a:prstGeom prst="line">
              <a:avLst/>
            </a:prstGeom>
            <a:ln w="152280">
              <a:solidFill>
                <a:srgbClr val="e40000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102200" y="2087640"/>
              <a:ext cx="144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Rectangle 10"/>
          <p:cNvSpPr/>
          <p:nvPr/>
        </p:nvSpPr>
        <p:spPr>
          <a:xfrm>
            <a:off x="3130560" y="2981520"/>
            <a:ext cx="1946160" cy="642600"/>
          </a:xfrm>
          <a:prstGeom prst="rect">
            <a:avLst/>
          </a:prstGeom>
          <a:solidFill>
            <a:srgbClr val="e1f4ff"/>
          </a:solidFill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军机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835280" y="4143240"/>
            <a:ext cx="5472000" cy="703440"/>
          </a:xfrm>
          <a:prstGeom prst="rect">
            <a:avLst/>
          </a:prstGeom>
          <a:solidFill>
            <a:srgbClr val="ccffcc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君主集权强化的标志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 Box 13" descr=""/>
          <p:cNvPicPr/>
          <p:nvPr/>
        </p:nvPicPr>
        <p:blipFill>
          <a:blip r:embed="rId1"/>
          <a:stretch/>
        </p:blipFill>
        <p:spPr>
          <a:xfrm>
            <a:off x="1130400" y="5194440"/>
            <a:ext cx="7196040" cy="6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12625 L -0.00417 -0.2067 E">
                                      <p:cBhvr>
                                        <p:cTn id="4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22529"/>
          <p:cNvSpPr/>
          <p:nvPr/>
        </p:nvSpPr>
        <p:spPr>
          <a:xfrm>
            <a:off x="930240" y="503856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议一议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是什么意思？军机处的设立对君主集权的强化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530"/>
          <p:cNvSpPr/>
          <p:nvPr/>
        </p:nvSpPr>
        <p:spPr>
          <a:xfrm>
            <a:off x="401760" y="1001880"/>
            <a:ext cx="80913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军机大臣“只供传述缮撰，而不能稍有赞画于其间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清代史学家赵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内容占位符 21506" descr="W020100825448301123351"/>
          <p:cNvPicPr/>
          <p:nvPr/>
        </p:nvPicPr>
        <p:blipFill>
          <a:blip r:embed="rId1"/>
          <a:stretch/>
        </p:blipFill>
        <p:spPr>
          <a:xfrm>
            <a:off x="2602080" y="2717640"/>
            <a:ext cx="3692520" cy="220824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3"/>
          <p:cNvSpPr/>
          <p:nvPr/>
        </p:nvSpPr>
        <p:spPr>
          <a:xfrm>
            <a:off x="488880" y="482760"/>
            <a:ext cx="40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职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23553"/>
          <p:cNvSpPr/>
          <p:nvPr/>
        </p:nvSpPr>
        <p:spPr>
          <a:xfrm>
            <a:off x="1057320" y="1149480"/>
            <a:ext cx="73245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说军机大臣的任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传达、抄写皇帝的旨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而不能把自己的意见夹杂进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完全置于皇帝的直接掌握之下，等于皇帝的私人秘书处。同时，军机处在权力上是执政的最高国家机关，而在形式上始终处于临时机构的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8960" y="56160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500" spc="-1" strike="noStrike">
                <a:solidFill>
                  <a:srgbClr val="0000ff"/>
                </a:solidFill>
                <a:latin typeface="Franklin Gothic Medium"/>
              </a:rPr>
              <a:t>仔细观看下面图片：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9" name="组合 19458"/>
          <p:cNvGrpSpPr/>
          <p:nvPr/>
        </p:nvGrpSpPr>
        <p:grpSpPr>
          <a:xfrm>
            <a:off x="990720" y="1447920"/>
            <a:ext cx="3124080" cy="3324240"/>
            <a:chOff x="990720" y="1447920"/>
            <a:chExt cx="3124080" cy="3324240"/>
          </a:xfrm>
        </p:grpSpPr>
        <p:pic>
          <p:nvPicPr>
            <p:cNvPr id="90" name="文本占位符 19459" descr="2006821152720352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3124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9460"/>
            <p:cNvSpPr/>
            <p:nvPr/>
          </p:nvSpPr>
          <p:spPr>
            <a:xfrm>
              <a:off x="1371600" y="419076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沈阳故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19461"/>
          <p:cNvGrpSpPr/>
          <p:nvPr/>
        </p:nvGrpSpPr>
        <p:grpSpPr>
          <a:xfrm>
            <a:off x="5172120" y="1486080"/>
            <a:ext cx="2819520" cy="3324240"/>
            <a:chOff x="5172120" y="1486080"/>
            <a:chExt cx="2819520" cy="3324240"/>
          </a:xfrm>
        </p:grpSpPr>
        <p:pic>
          <p:nvPicPr>
            <p:cNvPr id="93" name="图片 19462" descr="北京故宫乾清宫"/>
            <p:cNvPicPr/>
            <p:nvPr/>
          </p:nvPicPr>
          <p:blipFill>
            <a:blip r:embed="rId2"/>
            <a:stretch/>
          </p:blipFill>
          <p:spPr>
            <a:xfrm>
              <a:off x="5172120" y="1486080"/>
              <a:ext cx="2819520" cy="251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4" name="文本框 19463"/>
            <p:cNvSpPr/>
            <p:nvPr/>
          </p:nvSpPr>
          <p:spPr>
            <a:xfrm>
              <a:off x="5857920" y="4228920"/>
              <a:ext cx="140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乾清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19464"/>
          <p:cNvSpPr/>
          <p:nvPr/>
        </p:nvSpPr>
        <p:spPr>
          <a:xfrm>
            <a:off x="181296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9465"/>
          <p:cNvSpPr/>
          <p:nvPr/>
        </p:nvSpPr>
        <p:spPr>
          <a:xfrm>
            <a:off x="990720" y="5029200"/>
            <a:ext cx="700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思考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沈阳故宫和乾清宫在建筑布局和设置上反映出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8:41:00Z</dcterms:created>
  <dc:creator/>
  <dc:description/>
  <dc:language>en-US</dc:language>
  <cp:lastModifiedBy>Administrator</cp:lastModifiedBy>
  <dcterms:modified xsi:type="dcterms:W3CDTF">2019-01-08T08:41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